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298-44FB-4A98-B66F-E24FCF66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0CE-8F08-48CA-B751-C94677D6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5CE-1928-4EC3-A281-F22C342B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A8C-B67C-450D-8A3A-C5D5374B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943-3A98-4B20-8839-53FDFC5A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368-0B4C-447E-897E-5DD9C842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167-B6CC-4C51-B3E0-77F013F8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ACD-3D4E-4179-BBC9-D42DF77E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341-A20A-49CD-ADBD-781268B4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BBA-DAE9-452F-91C2-443AB2E1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050-E97E-4BB6-96ED-EC55D886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9F4-189E-4C92-A42D-80B96FCA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8201-5337-4234-983D-C15F0E3A06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ster</a:t>
            </a:r>
            <a:r>
              <a:rPr b="0" lang="cy-GB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nllun / Dyluniad / Cyfansoddi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erarchaeth Weled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Times New Roman"/>
              </a:rPr>
              <a:t>Y Rheol Trydydd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ster</a:t>
            </a:r>
            <a:r>
              <a:rPr b="0" lang="cy-GB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sodiad</a:t>
            </a:r>
            <a:r>
              <a:rPr b="0" lang="cy-GB" sz="3200" spc="-1" strike="noStrike">
                <a:solidFill>
                  <a:srgbClr val="000000"/>
                </a:solidFill>
                <a:latin typeface="Times New Roman"/>
              </a:rPr>
              <a:t> – Delweddau, Geiriau, Ll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IDA- Denu, Diddordeb, Eisiau a Gweithr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erarchaeth Weledol – Beth sydd bwysica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 Rheol Trydydd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3513"/>
          <p:cNvPicPr/>
          <p:nvPr/>
        </p:nvPicPr>
        <p:blipFill>
          <a:blip r:embed="rId1"/>
          <a:stretch/>
        </p:blipFill>
        <p:spPr>
          <a:xfrm>
            <a:off x="2286000" y="0"/>
            <a:ext cx="4299120" cy="647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Poster-m"/>
          <p:cNvPicPr/>
          <p:nvPr/>
        </p:nvPicPr>
        <p:blipFill>
          <a:blip r:embed="rId1"/>
          <a:stretch/>
        </p:blipFill>
        <p:spPr>
          <a:xfrm>
            <a:off x="2514600" y="0"/>
            <a:ext cx="3989520" cy="6321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becks"/>
          <p:cNvPicPr/>
          <p:nvPr/>
        </p:nvPicPr>
        <p:blipFill>
          <a:blip r:embed="rId1"/>
          <a:stretch/>
        </p:blipFill>
        <p:spPr>
          <a:xfrm>
            <a:off x="2367000" y="268200"/>
            <a:ext cx="4411800" cy="6321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3513"/>
          <p:cNvPicPr/>
          <p:nvPr/>
        </p:nvPicPr>
        <p:blipFill>
          <a:blip r:embed="rId1"/>
          <a:stretch/>
        </p:blipFill>
        <p:spPr>
          <a:xfrm>
            <a:off x="1295280" y="1371600"/>
            <a:ext cx="2679840" cy="403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oster-m"/>
          <p:cNvPicPr/>
          <p:nvPr/>
        </p:nvPicPr>
        <p:blipFill>
          <a:blip r:embed="rId2"/>
          <a:stretch/>
        </p:blipFill>
        <p:spPr>
          <a:xfrm>
            <a:off x="4648320" y="1371600"/>
            <a:ext cx="2552760" cy="4041720"/>
          </a:xfrm>
          <a:prstGeom prst="rect">
            <a:avLst/>
          </a:prstGeom>
          <a:ln w="0">
            <a:noFill/>
          </a:ln>
        </p:spPr>
      </p:pic>
      <p:sp>
        <p:nvSpPr>
          <p:cNvPr id="50" name="Line 6"/>
          <p:cNvSpPr/>
          <p:nvPr/>
        </p:nvSpPr>
        <p:spPr>
          <a:xfrm>
            <a:off x="2124000" y="98100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3132000" y="98100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826920" y="270828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55640" y="479736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3:38:25Z</dcterms:created>
  <dc:creator>Castell Alun HS</dc:creator>
  <dc:description/>
  <dc:language>en-US</dc:language>
  <cp:lastModifiedBy>TimData</cp:lastModifiedBy>
  <dcterms:modified xsi:type="dcterms:W3CDTF">2015-05-06T18:14:09Z</dcterms:modified>
  <cp:revision>6</cp:revision>
  <dc:subject/>
  <dc:title>Posters</dc:title>
</cp:coreProperties>
</file>